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30.png" ContentType="image/png"/>
  <Override PartName="/ppt/media/image5.png" ContentType="image/png"/>
  <Override PartName="/ppt/media/image35.wmf" ContentType="image/x-wmf"/>
  <Override PartName="/ppt/media/image36.png" ContentType="image/png"/>
  <Override PartName="/ppt/media/image37.wmf" ContentType="image/x-wmf"/>
  <Override PartName="/ppt/media/image38.wmf" ContentType="image/x-wmf"/>
  <Override PartName="/ppt/media/image40.wmf" ContentType="image/x-wmf"/>
  <Override PartName="/ppt/media/image20.png" ContentType="image/png"/>
  <Override PartName="/ppt/media/image28.png" ContentType="image/png"/>
  <Override PartName="/ppt/media/image7.jpeg" ContentType="image/jpeg"/>
  <Override PartName="/ppt/media/image39.wmf" ContentType="image/x-wmf"/>
  <Override PartName="/ppt/media/image8.jpeg" ContentType="image/jpe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26.png" ContentType="image/png"/>
  <Override PartName="/ppt/media/image12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281120" y="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60360" y="801720"/>
            <a:ext cx="503712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3"/>
          </p:nvPr>
        </p:nvSpPr>
        <p:spPr>
          <a:xfrm>
            <a:off x="-36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4"/>
          </p:nvPr>
        </p:nvSpPr>
        <p:spPr>
          <a:xfrm>
            <a:off x="428112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BE651-716D-4A0E-9B20-E8DFBF25F8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F5C75-2402-4125-9C8E-8E6BA48C3A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09045-2659-410A-93F8-08089EBC8F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4281480" y="1015524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B6AC7-4057-47E6-A259-57B3A68F9B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0" y="1015524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428148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1106640" y="801720"/>
            <a:ext cx="53467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7C2AE-497B-493F-BB1C-A0C085025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C0CA8-861E-4D47-BD1D-3D3E75F19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EA633-2002-4F96-9CD3-444CC9789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12FBB-D442-4232-9CD1-35865D3CF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A266B-381F-450D-91A3-A2EFBE81CD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611F6-FB34-4188-996B-00BDD0728D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8ABEF-9972-4C43-A418-C15BB11817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049CA-F2CC-4981-815F-BCBC60A771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310DA-3561-455B-A5A0-BFFA23F55B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893CB-5D0E-4708-9218-91253D1879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A7BEC-0B16-40E0-B0AA-2032FEDB56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241A0-0B39-4FCB-8255-08515528C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E01A3-B0CE-4434-B5AA-CB4E51961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72B0C-03A5-4785-BBC1-F34B483DE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E7E2E-ADAB-4B65-B2C8-2F66B384D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F8DF7-08E3-4938-9BD2-3C2309BB0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42227-1B6C-4C01-814D-F10F03F77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4834E-0656-40DD-AFFB-9491E89FE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"/>
          <p:cNvSpPr/>
          <p:nvPr/>
        </p:nvSpPr>
        <p:spPr>
          <a:xfrm>
            <a:off x="1108080" y="80172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9B122-859F-4AE1-B175-D1C1DEA6E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70FFE-D2DC-421B-B447-88BDDB432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4BFC2-ABCC-46BB-84C4-75F9C9ACA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8357A-B843-4FDB-86C6-7DB967507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D9263-3A4C-4D3C-B245-DFD80DBEB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96EA3-FA54-4151-9C83-994810835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6A11D-1F03-4924-816D-C92B78A42E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4281480" y="10155240"/>
            <a:ext cx="3273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4C61D-6F88-48EC-BE99-4FAEC638FD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92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052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292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052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6940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35520" y="176364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292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6940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35520" y="4369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2920" y="141120"/>
            <a:ext cx="9069480" cy="73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92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0520" y="4369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176364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369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141120"/>
            <a:ext cx="9069480" cy="15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87640" y="6970320"/>
            <a:ext cx="229896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1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22150189-CBAA-47A0-9F07-2489E0719A21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515880" y="6796080"/>
            <a:ext cx="9047160" cy="79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7738920" y="6905520"/>
            <a:ext cx="554040" cy="60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8373960" y="6905520"/>
            <a:ext cx="554040" cy="60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9009000" y="6905520"/>
            <a:ext cx="554040" cy="60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" name="Picture 9" descr=""/>
          <p:cNvPicPr/>
          <p:nvPr/>
        </p:nvPicPr>
        <p:blipFill>
          <a:blip r:embed="rId6"/>
          <a:stretch/>
        </p:blipFill>
        <p:spPr>
          <a:xfrm>
            <a:off x="7102440" y="6905520"/>
            <a:ext cx="554040" cy="60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" name="Rectangle 10"/>
          <p:cNvSpPr/>
          <p:nvPr/>
        </p:nvSpPr>
        <p:spPr>
          <a:xfrm>
            <a:off x="515880" y="6796080"/>
            <a:ext cx="9047160" cy="79560"/>
          </a:xfrm>
          <a:prstGeom prst="rect">
            <a:avLst/>
          </a:prstGeom>
          <a:gradFill rotWithShape="0">
            <a:gsLst>
              <a:gs pos="0">
                <a:srgbClr val="909082"/>
              </a:gs>
              <a:gs pos="100000">
                <a:srgbClr val="42423b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ußzeilenplatzhalter 2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78C49FA5-F062-48FC-96B1-C3795CB9719E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1861920"/>
            <a:ext cx="856764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Identification of Material Parameters for Thermal Abla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10920" y="4284720"/>
            <a:ext cx="70563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3500" spc="-1" strike="noStrike">
                <a:solidFill>
                  <a:srgbClr val="ffffff"/>
                </a:solidFill>
                <a:latin typeface="Arial"/>
                <a:ea typeface="DejaVu LGC Sans"/>
              </a:rPr>
              <a:t>Hanne Tiesler</a:t>
            </a:r>
            <a:br>
              <a:rPr sz="3500"/>
            </a:b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DejaVu LGC Sans"/>
              </a:rPr>
              <a:t>CeVis/MeVis/ZeTeM @ University of Bremen, Ger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DejaVu LGC Sans"/>
              </a:rPr>
              <a:t>DFG SPP 125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3F833761-4232-4BE0-9209-6063A213A5D2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360" y="140760"/>
            <a:ext cx="9069480" cy="15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Uncertainty in material properti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terial parameters are different for each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terial parameters in vivo are not know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3"/>
          <p:cNvGrpSpPr/>
          <p:nvPr/>
        </p:nvGrpSpPr>
        <p:grpSpPr>
          <a:xfrm>
            <a:off x="980640" y="3662280"/>
            <a:ext cx="8659800" cy="3236400"/>
            <a:chOff x="980640" y="3662280"/>
            <a:chExt cx="8659800" cy="3236400"/>
          </a:xfrm>
        </p:grpSpPr>
        <p:pic>
          <p:nvPicPr>
            <p:cNvPr id="163" name="Picture 4" descr=""/>
            <p:cNvPicPr/>
            <p:nvPr/>
          </p:nvPicPr>
          <p:blipFill>
            <a:blip r:embed="rId1"/>
            <a:stretch/>
          </p:blipFill>
          <p:spPr>
            <a:xfrm>
              <a:off x="4524840" y="4352400"/>
              <a:ext cx="440748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5" descr=""/>
            <p:cNvPicPr/>
            <p:nvPr/>
          </p:nvPicPr>
          <p:blipFill>
            <a:blip r:embed="rId2"/>
            <a:stretch/>
          </p:blipFill>
          <p:spPr>
            <a:xfrm>
              <a:off x="5482080" y="3762000"/>
              <a:ext cx="2693160" cy="27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6"/>
            <p:cNvSpPr/>
            <p:nvPr/>
          </p:nvSpPr>
          <p:spPr>
            <a:xfrm>
              <a:off x="980640" y="3662280"/>
              <a:ext cx="246384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- Water content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987120" y="4279680"/>
              <a:ext cx="331128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- Electric conductivity</a:t>
              </a:r>
              <a:br>
                <a:rPr sz="2600"/>
              </a:b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  of native tissue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8"/>
            <p:cNvSpPr/>
            <p:nvPr/>
          </p:nvSpPr>
          <p:spPr>
            <a:xfrm>
              <a:off x="983880" y="5339160"/>
              <a:ext cx="2777760" cy="10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- Heat capacity of</a:t>
              </a:r>
              <a:br>
                <a:rPr sz="2600"/>
              </a:b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  dry tissue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9"/>
            <p:cNvSpPr/>
            <p:nvPr/>
          </p:nvSpPr>
          <p:spPr>
            <a:xfrm>
              <a:off x="1002960" y="6249960"/>
              <a:ext cx="570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9" name="Picture 10" descr=""/>
            <p:cNvPicPr/>
            <p:nvPr/>
          </p:nvPicPr>
          <p:blipFill>
            <a:blip r:embed="rId3"/>
            <a:stretch/>
          </p:blipFill>
          <p:spPr>
            <a:xfrm>
              <a:off x="4569480" y="5377320"/>
              <a:ext cx="5070960" cy="839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DBF1D9CA-87F4-4709-A1F6-71258301F9CC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186840"/>
            <a:ext cx="907236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Parameter Identific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2360" cy="57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erature distribution can be measured during the ab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erature depends on the material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49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nstruct the thermal conductivity     and the electrical conductivity     of the tissue from measurement data of the temperature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49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t the temperature to the measur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49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49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4270320" y="3282840"/>
            <a:ext cx="2704680" cy="855360"/>
            <a:chOff x="4270320" y="3282840"/>
            <a:chExt cx="2704680" cy="855360"/>
          </a:xfrm>
        </p:grpSpPr>
        <p:pic>
          <p:nvPicPr>
            <p:cNvPr id="174" name="Picture 4" descr=""/>
            <p:cNvPicPr/>
            <p:nvPr/>
          </p:nvPicPr>
          <p:blipFill>
            <a:blip r:embed="rId1"/>
            <a:stretch/>
          </p:blipFill>
          <p:spPr>
            <a:xfrm>
              <a:off x="6622920" y="3282840"/>
              <a:ext cx="352080" cy="3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5" descr=""/>
            <p:cNvPicPr/>
            <p:nvPr/>
          </p:nvPicPr>
          <p:blipFill>
            <a:blip r:embed="rId2"/>
            <a:stretch/>
          </p:blipFill>
          <p:spPr>
            <a:xfrm>
              <a:off x="4270320" y="3846600"/>
              <a:ext cx="337680" cy="291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ußzeilenplatzhalter 2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61F51114-0552-482E-992A-3FF9DCD1B5E1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140760"/>
            <a:ext cx="9072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Objective function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539640" y="1800360"/>
            <a:ext cx="899964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98480" indent="-341280">
              <a:lnSpc>
                <a:spcPct val="115000"/>
              </a:lnSpc>
              <a:spcBef>
                <a:spcPts val="649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79848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DejaVu LGC Sans"/>
              </a:rPr>
              <a:t>Inverse problem as an optimal control of semi-linear parabolic equation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49000"/>
              </a:lnSpc>
              <a:spcBef>
                <a:spcPts val="649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79848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DejaVu LGC Sans"/>
              </a:rPr>
              <a:t>Minimize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49000"/>
              </a:lnSpc>
              <a:spcBef>
                <a:spcPts val="649"/>
              </a:spcBef>
              <a:tabLst>
                <a:tab algn="l" pos="0"/>
                <a:tab algn="l" pos="79848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97822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49000"/>
              </a:lnSpc>
              <a:spcBef>
                <a:spcPts val="649"/>
              </a:spcBef>
              <a:tabLst>
                <a:tab algn="l" pos="0"/>
                <a:tab algn="l" pos="79848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97822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49000"/>
              </a:lnSpc>
              <a:spcBef>
                <a:spcPts val="649"/>
              </a:spcBef>
              <a:tabLst>
                <a:tab algn="l" pos="0"/>
                <a:tab algn="l" pos="79848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97822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49000"/>
              </a:lnSpc>
              <a:spcBef>
                <a:spcPts val="649"/>
              </a:spcBef>
              <a:tabLst>
                <a:tab algn="l" pos="0"/>
                <a:tab algn="l" pos="79848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DejaVu LGC Sans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79848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DejaVu LGC Sans"/>
              </a:rPr>
              <a:t>With the measured temperature                    and              and     regularization coeffic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79848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97822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79848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97822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79848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DejaVu LGC San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79848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9333000"/>
                <a:tab algn="l" pos="978228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DejaVu LGC San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1211400" y="3274920"/>
            <a:ext cx="757368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4"/>
          <p:cNvGrpSpPr/>
          <p:nvPr/>
        </p:nvGrpSpPr>
        <p:grpSpPr>
          <a:xfrm>
            <a:off x="1944720" y="5681520"/>
            <a:ext cx="7414920" cy="849240"/>
            <a:chOff x="1944720" y="5681520"/>
            <a:chExt cx="7414920" cy="849240"/>
          </a:xfrm>
        </p:grpSpPr>
        <p:pic>
          <p:nvPicPr>
            <p:cNvPr id="181" name="Picture 5" descr=""/>
            <p:cNvPicPr/>
            <p:nvPr/>
          </p:nvPicPr>
          <p:blipFill>
            <a:blip r:embed="rId2"/>
            <a:stretch/>
          </p:blipFill>
          <p:spPr>
            <a:xfrm>
              <a:off x="8994960" y="5724000"/>
              <a:ext cx="364680" cy="2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6" descr=""/>
            <p:cNvPicPr/>
            <p:nvPr/>
          </p:nvPicPr>
          <p:blipFill>
            <a:blip r:embed="rId3"/>
            <a:stretch/>
          </p:blipFill>
          <p:spPr>
            <a:xfrm>
              <a:off x="1944720" y="6084000"/>
              <a:ext cx="4028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7" descr=""/>
            <p:cNvPicPr/>
            <p:nvPr/>
          </p:nvPicPr>
          <p:blipFill>
            <a:blip r:embed="rId4"/>
            <a:stretch/>
          </p:blipFill>
          <p:spPr>
            <a:xfrm>
              <a:off x="6396480" y="5681520"/>
              <a:ext cx="1666440" cy="402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FC0019D0-84A3-425D-8CBF-B389D3AB3936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186840"/>
            <a:ext cx="907236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Coupled constraints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2360" cy="63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at equation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tential equ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1519200" y="5303880"/>
            <a:ext cx="6400800" cy="85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828720" y="2556000"/>
            <a:ext cx="8426520" cy="131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5E8FF7F8-533E-4EBE-8FE6-CB1DCB353AD1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24000"/>
            <a:ext cx="907236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Discretiz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403280"/>
            <a:ext cx="907236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ite element discretization in space leads to system of ODEs as constraints: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nim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ject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62000" y="3225960"/>
            <a:ext cx="9847080" cy="1633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2811600" y="5364000"/>
            <a:ext cx="5973480" cy="12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72F0235A-2C60-4A77-A5DB-6CFE4470BA80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2920" y="186840"/>
            <a:ext cx="907236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Compu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2920" y="2050560"/>
            <a:ext cx="9072360" cy="54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ve the optimization problem for    and     with a SQP-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at equation and potential equation have an effect on the computation of the temperature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x-constraints for     and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ving with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orhp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 SQP solver developed by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G Optimierung und optimale Steueru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t University Bre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6259680" y="2046240"/>
            <a:ext cx="1371240" cy="363600"/>
            <a:chOff x="6259680" y="2046240"/>
            <a:chExt cx="1371240" cy="363600"/>
          </a:xfrm>
        </p:grpSpPr>
        <p:pic>
          <p:nvPicPr>
            <p:cNvPr id="198" name="Picture 4" descr=""/>
            <p:cNvPicPr/>
            <p:nvPr/>
          </p:nvPicPr>
          <p:blipFill>
            <a:blip r:embed="rId1"/>
            <a:stretch/>
          </p:blipFill>
          <p:spPr>
            <a:xfrm>
              <a:off x="6259680" y="2046240"/>
              <a:ext cx="36432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5" descr=""/>
            <p:cNvPicPr/>
            <p:nvPr/>
          </p:nvPicPr>
          <p:blipFill>
            <a:blip r:embed="rId2"/>
            <a:stretch/>
          </p:blipFill>
          <p:spPr>
            <a:xfrm>
              <a:off x="7285680" y="2111040"/>
              <a:ext cx="345240" cy="29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6"/>
          <p:cNvGrpSpPr/>
          <p:nvPr/>
        </p:nvGrpSpPr>
        <p:grpSpPr>
          <a:xfrm>
            <a:off x="3887640" y="3851280"/>
            <a:ext cx="1510920" cy="363600"/>
            <a:chOff x="3887640" y="3851280"/>
            <a:chExt cx="1510920" cy="363600"/>
          </a:xfrm>
        </p:grpSpPr>
        <p:pic>
          <p:nvPicPr>
            <p:cNvPr id="201" name="Picture 7" descr=""/>
            <p:cNvPicPr/>
            <p:nvPr/>
          </p:nvPicPr>
          <p:blipFill>
            <a:blip r:embed="rId3"/>
            <a:stretch/>
          </p:blipFill>
          <p:spPr>
            <a:xfrm>
              <a:off x="3887640" y="3851280"/>
              <a:ext cx="36468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8" descr=""/>
            <p:cNvPicPr/>
            <p:nvPr/>
          </p:nvPicPr>
          <p:blipFill>
            <a:blip r:embed="rId4"/>
            <a:stretch/>
          </p:blipFill>
          <p:spPr>
            <a:xfrm>
              <a:off x="5053320" y="3911400"/>
              <a:ext cx="345240" cy="298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A16B7F1C-7B03-4F12-97E4-5A668BC2818D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186840"/>
            <a:ext cx="907236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First approach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e-dimensional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ple heat equation, without perfusion and coefficients     and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itional assumptions for     and     like constant or piecewise cons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tificial temperature data, knowledge of the optimal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2700360" y="2771640"/>
            <a:ext cx="1396440" cy="363600"/>
            <a:chOff x="2700360" y="2771640"/>
            <a:chExt cx="1396440" cy="363600"/>
          </a:xfrm>
        </p:grpSpPr>
        <p:pic>
          <p:nvPicPr>
            <p:cNvPr id="207" name="Picture 4" descr=""/>
            <p:cNvPicPr/>
            <p:nvPr/>
          </p:nvPicPr>
          <p:blipFill>
            <a:blip r:embed="rId1"/>
            <a:stretch/>
          </p:blipFill>
          <p:spPr>
            <a:xfrm>
              <a:off x="2700360" y="2771640"/>
              <a:ext cx="36432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" descr=""/>
            <p:cNvPicPr/>
            <p:nvPr/>
          </p:nvPicPr>
          <p:blipFill>
            <a:blip r:embed="rId2"/>
            <a:stretch/>
          </p:blipFill>
          <p:spPr>
            <a:xfrm>
              <a:off x="3814920" y="2771640"/>
              <a:ext cx="281880" cy="2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6"/>
          <p:cNvGrpSpPr/>
          <p:nvPr/>
        </p:nvGrpSpPr>
        <p:grpSpPr>
          <a:xfrm>
            <a:off x="5040360" y="3203640"/>
            <a:ext cx="1437840" cy="363600"/>
            <a:chOff x="5040360" y="3203640"/>
            <a:chExt cx="1437840" cy="363600"/>
          </a:xfrm>
        </p:grpSpPr>
        <p:pic>
          <p:nvPicPr>
            <p:cNvPr id="210" name="Picture 7" descr=""/>
            <p:cNvPicPr/>
            <p:nvPr/>
          </p:nvPicPr>
          <p:blipFill>
            <a:blip r:embed="rId3"/>
            <a:stretch/>
          </p:blipFill>
          <p:spPr>
            <a:xfrm>
              <a:off x="5040360" y="3203640"/>
              <a:ext cx="36432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8" descr=""/>
            <p:cNvPicPr/>
            <p:nvPr/>
          </p:nvPicPr>
          <p:blipFill>
            <a:blip r:embed="rId4"/>
            <a:stretch/>
          </p:blipFill>
          <p:spPr>
            <a:xfrm>
              <a:off x="6153120" y="3274560"/>
              <a:ext cx="325080" cy="281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ußzeilenplatzhalter 4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B0DDA41C-1A9A-4D3F-9DD2-E22CC82C66B1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140760"/>
            <a:ext cx="9070920" cy="15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Results for constant parame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31280" y="1763280"/>
            <a:ext cx="44593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lnSpc>
                <a:spcPct val="116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Error for lambda and sig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14520" y="1763280"/>
            <a:ext cx="44593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lnSpc>
                <a:spcPct val="116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Iteration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431640" y="2403360"/>
            <a:ext cx="9210960" cy="3706920"/>
            <a:chOff x="431640" y="2403360"/>
            <a:chExt cx="9210960" cy="3706920"/>
          </a:xfrm>
        </p:grpSpPr>
        <p:grpSp>
          <p:nvGrpSpPr>
            <p:cNvPr id="217" name="Group 5"/>
            <p:cNvGrpSpPr/>
            <p:nvPr/>
          </p:nvGrpSpPr>
          <p:grpSpPr>
            <a:xfrm>
              <a:off x="431640" y="2403360"/>
              <a:ext cx="4457880" cy="3706920"/>
              <a:chOff x="431640" y="2403360"/>
              <a:chExt cx="4457880" cy="3706920"/>
            </a:xfrm>
          </p:grpSpPr>
          <p:pic>
            <p:nvPicPr>
              <p:cNvPr id="21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2403360"/>
                <a:ext cx="4457880" cy="37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Text Box 7"/>
              <p:cNvSpPr/>
              <p:nvPr/>
            </p:nvSpPr>
            <p:spPr>
              <a:xfrm>
                <a:off x="431640" y="2403360"/>
                <a:ext cx="4457880" cy="37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8"/>
            <p:cNvGrpSpPr/>
            <p:nvPr/>
          </p:nvGrpSpPr>
          <p:grpSpPr>
            <a:xfrm>
              <a:off x="5184720" y="2411280"/>
              <a:ext cx="4457880" cy="3672000"/>
              <a:chOff x="5184720" y="2411280"/>
              <a:chExt cx="4457880" cy="3672000"/>
            </a:xfrm>
          </p:grpSpPr>
          <p:pic>
            <p:nvPicPr>
              <p:cNvPr id="221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84720" y="2411280"/>
                <a:ext cx="4457880" cy="36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Text Box 10"/>
              <p:cNvSpPr/>
              <p:nvPr/>
            </p:nvSpPr>
            <p:spPr>
              <a:xfrm>
                <a:off x="5184720" y="2411280"/>
                <a:ext cx="4457880" cy="36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23" name="Picture 11" descr=""/>
          <p:cNvPicPr/>
          <p:nvPr/>
        </p:nvPicPr>
        <p:blipFill>
          <a:blip r:embed="rId3"/>
          <a:stretch/>
        </p:blipFill>
        <p:spPr>
          <a:xfrm>
            <a:off x="1535040" y="6294600"/>
            <a:ext cx="7284960" cy="3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31280" y="1763280"/>
            <a:ext cx="44593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lnSpc>
                <a:spcPct val="116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Error for lambda and sig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535040" y="6294600"/>
            <a:ext cx="7284960" cy="365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5219640" y="2340000"/>
            <a:ext cx="4680000" cy="36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347760" y="2340000"/>
            <a:ext cx="4584600" cy="3600360"/>
          </a:xfrm>
          <a:prstGeom prst="rect">
            <a:avLst/>
          </a:prstGeom>
          <a:ln w="0">
            <a:noFill/>
          </a:ln>
        </p:spPr>
      </p:pic>
      <p:sp>
        <p:nvSpPr>
          <p:cNvPr id="228" name="Fußzeilenplatzhalter 4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E0D59C2E-07F8-43C4-A3BD-9DAD959AE44F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25080" y="0"/>
            <a:ext cx="9070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Results for constant parame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14520" y="1763640"/>
            <a:ext cx="4459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lnSpc>
                <a:spcPct val="116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Iteration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4335BBB4-7507-4146-8FD7-146A222CF7A0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140760"/>
            <a:ext cx="9070920" cy="15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Piecewise constant parame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36680" y="1476360"/>
            <a:ext cx="4459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1720" indent="-531720" algn="ctr">
              <a:lnSpc>
                <a:spcPct val="116000"/>
              </a:lnSpc>
              <a:spcBef>
                <a:spcPts val="700"/>
              </a:spcBef>
              <a:tabLst>
                <a:tab algn="l" pos="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mb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111640" y="1549440"/>
            <a:ext cx="4459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 algn="ctr">
              <a:lnSpc>
                <a:spcPct val="116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g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440000" y="6227640"/>
            <a:ext cx="66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8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ularization coefficients = 0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360360" y="2160720"/>
            <a:ext cx="4500720" cy="377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5111640" y="2160720"/>
            <a:ext cx="468000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ußzeilenplatzhalter 1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80D2976F-0715-49C1-B786-F46855985A87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19040" y="258840"/>
            <a:ext cx="85219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9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oint work with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Inga Altrogge, CeVis, Bremen University, Germa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im Kröger, CeVis, Bremen University, Germa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Heinz-Otto Peitgen, CeVis &amp; MeVis Research, Bremen, Germa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obias Preusser, CeVis, Bremen University, Germany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Christoph Büskens, ZETEM, Bremen University, Germa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Matthias Gerdts, University of Birmingham, GB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Patrik Kalmbach, ZETEM, Bremen University, Germa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Dennis Wassel, ZETEM, Bremen University, Germa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MeVis Research, Center for Medical Image Computing, Bremen, Germa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Philippe L. Pereira, University Clinic Tübingen, Germa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9000"/>
              </a:lnSpc>
              <a:spcBef>
                <a:spcPts val="476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D. Schmidt, University Clinic Tübingen, Germa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ußzeilenplatzhalter 4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DCBC554E-6D82-4B57-B4AB-AD745C36E74D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245880"/>
            <a:ext cx="9070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Results for piecewise constant lamb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624720" y="2195280"/>
            <a:ext cx="29527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16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ror for lambda vs number of optimization variables with and without regular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16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647640" y="2079720"/>
            <a:ext cx="5688000" cy="44622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844560" y="6840360"/>
            <a:ext cx="549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ußzeilenplatzhalter 4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1649941C-7EE1-49D3-A661-7793AB737C99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2920" y="245880"/>
            <a:ext cx="9070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Results for piecewise constant lamb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0" y="2195640"/>
            <a:ext cx="273852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16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rror for lambda vs number of optimization variables with and without regula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16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44560" y="6840360"/>
            <a:ext cx="549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612000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ußzeilenplatzhalter 4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4FFBD244-9659-40EA-8A44-2CE699053BDC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2920" y="245880"/>
            <a:ext cx="9070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Results for piecewise constant sigm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24360" y="2484360"/>
            <a:ext cx="288108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16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rror for sigma vs number of optimization variables with and without regular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503280" y="2025720"/>
            <a:ext cx="5905440" cy="46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ußzeilenplatzhalter 4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B8CDC0AB-E5E9-457C-9969-8785D1A287E8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245880"/>
            <a:ext cx="9070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Results for piecewise constant sigm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97240" y="2279520"/>
            <a:ext cx="260676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16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rror for sigma vs number of optimization variables with and without regula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539640" y="1944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179C3BE5-B5C4-4EC3-A7FB-2849F0262E0E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2920" y="131400"/>
            <a:ext cx="9070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Results for piecewise constant lambda with regularization ter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882800" y="1787400"/>
            <a:ext cx="6311880" cy="49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48DBBF8C-8016-4F1E-A86D-9468BFF5354B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131400"/>
            <a:ext cx="9070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Results for piecewise constant sigma with regularization ter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882800" y="1787400"/>
            <a:ext cx="6311880" cy="49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27FB78D5-C7B9-48AA-8D57-E1BF4D1C0998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2920" y="186840"/>
            <a:ext cx="9072360" cy="14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Current work and Outlook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" y="176328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lementation for 3-dimensional model and artificial tumor-data as well as real CT-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mperature dependence of the material parameters   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tting to real temperatur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952720" y="3282840"/>
            <a:ext cx="1509480" cy="351000"/>
            <a:chOff x="2952720" y="3282840"/>
            <a:chExt cx="1509480" cy="351000"/>
          </a:xfrm>
        </p:grpSpPr>
        <p:pic>
          <p:nvPicPr>
            <p:cNvPr id="266" name="Picture 4" descr=""/>
            <p:cNvPicPr/>
            <p:nvPr/>
          </p:nvPicPr>
          <p:blipFill>
            <a:blip r:embed="rId1"/>
            <a:stretch/>
          </p:blipFill>
          <p:spPr>
            <a:xfrm>
              <a:off x="2952720" y="3282840"/>
              <a:ext cx="3520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5" descr=""/>
            <p:cNvPicPr/>
            <p:nvPr/>
          </p:nvPicPr>
          <p:blipFill>
            <a:blip r:embed="rId2"/>
            <a:stretch/>
          </p:blipFill>
          <p:spPr>
            <a:xfrm>
              <a:off x="4124520" y="3342960"/>
              <a:ext cx="337680" cy="290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ußzeilenplatzhalter 2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E41EECD9-78D9-43A1-BE7F-7DFE4254A952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2920" y="2301480"/>
            <a:ext cx="9070920" cy="16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48474E6E-C232-445D-88DF-09EE80C74AA5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145800"/>
            <a:ext cx="907236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Treatment of lesions in the </a:t>
            </a:r>
            <a:br>
              <a:rPr sz="4000"/>
            </a:b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human liver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5005440" y="1722600"/>
            <a:ext cx="4767120" cy="46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375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e9dcb9"/>
                </a:solidFill>
                <a:latin typeface="Arial"/>
              </a:rPr>
              <a:t>Transpl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DejaVu LGC Sans"/>
              </a:rPr>
              <a:t>„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DejaVu LGC Sans"/>
              </a:rPr>
              <a:t>Replace“ the liv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e9dcb9"/>
                </a:solidFill>
                <a:latin typeface="Arial"/>
              </a:rPr>
              <a:t>Surgical re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DejaVu LGC Sans"/>
              </a:rPr>
              <a:t>Cut the lesion 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e9dcb9"/>
                </a:solidFill>
                <a:latin typeface="Arial"/>
              </a:rPr>
              <a:t>Chemothera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DejaVu LGC Sans"/>
              </a:rPr>
              <a:t>Kill tumor by cytotoxic dru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e9dcb9"/>
                </a:solidFill>
                <a:latin typeface="Arial"/>
              </a:rPr>
              <a:t>Cryothera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DejaVu LGC Sans"/>
              </a:rPr>
              <a:t>Kill tumor cells by freez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e9dcb9"/>
                </a:solidFill>
                <a:latin typeface="Arial"/>
              </a:rPr>
              <a:t>Thermal Ab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DejaVu LGC Sans"/>
              </a:rPr>
              <a:t>Kill tumor cells by he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587520" y="1778040"/>
            <a:ext cx="4294080" cy="2913120"/>
            <a:chOff x="587520" y="1778040"/>
            <a:chExt cx="4294080" cy="2913120"/>
          </a:xfrm>
        </p:grpSpPr>
        <p:sp>
          <p:nvSpPr>
            <p:cNvPr id="64" name="Rectangle 4"/>
            <p:cNvSpPr/>
            <p:nvPr/>
          </p:nvSpPr>
          <p:spPr>
            <a:xfrm>
              <a:off x="587520" y="1778040"/>
              <a:ext cx="4294080" cy="2913120"/>
            </a:xfrm>
            <a:prstGeom prst="rect">
              <a:avLst/>
            </a:prstGeom>
            <a:solidFill>
              <a:srgbClr val="909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mg of les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" name="Picture 5" descr=""/>
            <p:cNvPicPr/>
            <p:nvPr/>
          </p:nvPicPr>
          <p:blipFill>
            <a:blip r:embed="rId1"/>
            <a:srcRect l="0" t="0" r="0" b="8528"/>
            <a:stretch/>
          </p:blipFill>
          <p:spPr>
            <a:xfrm>
              <a:off x="632880" y="1810800"/>
              <a:ext cx="4202280" cy="2832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ußzeilenplatzhalter 4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B072FBCA-F1E5-482E-953F-C71D9D6E7EC4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reatment-Plann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8" name="Group 2"/>
          <p:cNvGrpSpPr/>
          <p:nvPr/>
        </p:nvGrpSpPr>
        <p:grpSpPr>
          <a:xfrm>
            <a:off x="4400640" y="1685880"/>
            <a:ext cx="5172120" cy="4116600"/>
            <a:chOff x="4400640" y="1685880"/>
            <a:chExt cx="5172120" cy="4116600"/>
          </a:xfrm>
        </p:grpSpPr>
        <p:sp>
          <p:nvSpPr>
            <p:cNvPr id="69" name="Rectangle 3"/>
            <p:cNvSpPr/>
            <p:nvPr/>
          </p:nvSpPr>
          <p:spPr>
            <a:xfrm>
              <a:off x="4400640" y="1685880"/>
              <a:ext cx="5172120" cy="4116600"/>
            </a:xfrm>
            <a:prstGeom prst="rect">
              <a:avLst/>
            </a:prstGeom>
            <a:solidFill>
              <a:srgbClr val="909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" name="Picture 4" descr=""/>
            <p:cNvPicPr/>
            <p:nvPr/>
          </p:nvPicPr>
          <p:blipFill>
            <a:blip r:embed="rId1"/>
            <a:stretch/>
          </p:blipFill>
          <p:spPr>
            <a:xfrm>
              <a:off x="4444560" y="1725120"/>
              <a:ext cx="5085000" cy="403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5"/>
          <p:cNvGrpSpPr/>
          <p:nvPr/>
        </p:nvGrpSpPr>
        <p:grpSpPr>
          <a:xfrm>
            <a:off x="473040" y="1281240"/>
            <a:ext cx="4740840" cy="5501160"/>
            <a:chOff x="473040" y="1281240"/>
            <a:chExt cx="4740840" cy="5501160"/>
          </a:xfrm>
        </p:grpSpPr>
        <p:sp>
          <p:nvSpPr>
            <p:cNvPr id="72" name="Text Box 6"/>
            <p:cNvSpPr/>
            <p:nvPr/>
          </p:nvSpPr>
          <p:spPr>
            <a:xfrm>
              <a:off x="3821400" y="5967720"/>
              <a:ext cx="13924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1000"/>
                </a:lnSpc>
                <a:spcBef>
                  <a:spcPts val="111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Bipolar o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2000"/>
                </a:lnSpc>
                <a:spcBef>
                  <a:spcPts val="111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ultipola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" name="Group 7"/>
            <p:cNvGrpSpPr/>
            <p:nvPr/>
          </p:nvGrpSpPr>
          <p:grpSpPr>
            <a:xfrm>
              <a:off x="473040" y="1281240"/>
              <a:ext cx="3219840" cy="2127960"/>
              <a:chOff x="473040" y="1281240"/>
              <a:chExt cx="3219840" cy="2127960"/>
            </a:xfrm>
          </p:grpSpPr>
          <p:sp>
            <p:nvSpPr>
              <p:cNvPr id="74" name="Rectangle 8"/>
              <p:cNvSpPr/>
              <p:nvPr/>
            </p:nvSpPr>
            <p:spPr>
              <a:xfrm>
                <a:off x="473040" y="1281240"/>
                <a:ext cx="3219840" cy="2127960"/>
              </a:xfrm>
              <a:prstGeom prst="rect">
                <a:avLst/>
              </a:prstGeom>
              <a:solidFill>
                <a:srgbClr val="90908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5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496440" y="1312560"/>
                <a:ext cx="3170520" cy="206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10"/>
            <p:cNvGrpSpPr/>
            <p:nvPr/>
          </p:nvGrpSpPr>
          <p:grpSpPr>
            <a:xfrm>
              <a:off x="473040" y="3536280"/>
              <a:ext cx="3229560" cy="3208680"/>
              <a:chOff x="473040" y="3536280"/>
              <a:chExt cx="3229560" cy="3208680"/>
            </a:xfrm>
          </p:grpSpPr>
          <p:sp>
            <p:nvSpPr>
              <p:cNvPr id="77" name="Rectangle 11"/>
              <p:cNvSpPr/>
              <p:nvPr/>
            </p:nvSpPr>
            <p:spPr>
              <a:xfrm>
                <a:off x="473040" y="3536280"/>
                <a:ext cx="3229560" cy="3208680"/>
              </a:xfrm>
              <a:prstGeom prst="rect">
                <a:avLst/>
              </a:prstGeom>
              <a:solidFill>
                <a:srgbClr val="90908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8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01120" y="3561120"/>
                <a:ext cx="3171240" cy="315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D8FA4F0A-D6FD-43A5-87D8-1C4FE713D3F1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8000" y="512244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RF-Abl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Freeform 2"/>
          <p:cNvSpPr/>
          <p:nvPr/>
        </p:nvSpPr>
        <p:spPr>
          <a:xfrm>
            <a:off x="1092240" y="588960"/>
            <a:ext cx="8231040" cy="6130800"/>
          </a:xfrm>
          <a:prstGeom prst="pie">
            <a:avLst/>
          </a:prstGeom>
          <a:gradFill rotWithShape="0">
            <a:gsLst>
              <a:gs pos="0">
                <a:srgbClr val="582424"/>
              </a:gs>
              <a:gs pos="100000">
                <a:srgbClr val="bf4f4f"/>
              </a:gs>
            </a:gsLst>
            <a:lin ang="5400000"/>
          </a:gradFill>
          <a:ln w="19080">
            <a:solidFill>
              <a:srgbClr val="ff5050"/>
            </a:solidFill>
            <a:round/>
          </a:ln>
          <a:effectLst>
            <a:outerShdw dist="40186" dir="4303641" blurRad="0" rotWithShape="0">
              <a:srgbClr val="90908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3108240" y="1922400"/>
            <a:ext cx="2762280" cy="1344240"/>
            <a:chOff x="3108240" y="1922400"/>
            <a:chExt cx="2762280" cy="1344240"/>
          </a:xfrm>
        </p:grpSpPr>
        <p:sp>
          <p:nvSpPr>
            <p:cNvPr id="83" name="Oval 4"/>
            <p:cNvSpPr/>
            <p:nvPr/>
          </p:nvSpPr>
          <p:spPr>
            <a:xfrm>
              <a:off x="3108240" y="2177640"/>
              <a:ext cx="1091520" cy="1089000"/>
            </a:xfrm>
            <a:prstGeom prst="ellipse">
              <a:avLst/>
            </a:prstGeom>
            <a:gradFill rotWithShape="0">
              <a:gsLst>
                <a:gs pos="0">
                  <a:srgbClr val="e9dcb9"/>
                </a:gs>
                <a:gs pos="100000">
                  <a:srgbClr val="9a927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40186" dir="1096358" blurRad="0" rotWithShape="0">
                <a:srgbClr val="18181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4545360" y="1922400"/>
              <a:ext cx="13251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e9dcb9"/>
                  </a:solidFill>
                  <a:latin typeface="Arial"/>
                </a:rPr>
                <a:t>Les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1260360" y="857160"/>
            <a:ext cx="6205680" cy="3591000"/>
            <a:chOff x="1260360" y="857160"/>
            <a:chExt cx="6205680" cy="3591000"/>
          </a:xfrm>
        </p:grpSpPr>
        <p:sp>
          <p:nvSpPr>
            <p:cNvPr id="86" name="Freeform 7"/>
            <p:cNvSpPr/>
            <p:nvPr/>
          </p:nvSpPr>
          <p:spPr>
            <a:xfrm>
              <a:off x="1260360" y="857160"/>
              <a:ext cx="3863160" cy="3591000"/>
            </a:xfrm>
            <a:prstGeom prst="pie">
              <a:avLst/>
            </a:prstGeom>
            <a:solidFill>
              <a:srgbClr val="d1d1cb"/>
            </a:solidFill>
            <a:ln w="9360">
              <a:solidFill>
                <a:srgbClr val="ff19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4932360" y="3129480"/>
              <a:ext cx="25336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e9dcb9"/>
                  </a:solidFill>
                  <a:latin typeface="Arial"/>
                </a:rPr>
                <a:t>Local Vessel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Freeform 9"/>
          <p:cNvSpPr/>
          <p:nvPr/>
        </p:nvSpPr>
        <p:spPr>
          <a:xfrm>
            <a:off x="3611520" y="1932120"/>
            <a:ext cx="1800" cy="5040360"/>
          </a:xfrm>
          <a:prstGeom prst="pie">
            <a:avLst/>
          </a:prstGeom>
          <a:noFill/>
          <a:ln w="76320">
            <a:solidFill>
              <a:srgbClr val="809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 rot="21120000">
            <a:off x="3024360" y="1684440"/>
            <a:ext cx="955440" cy="1847880"/>
          </a:xfrm>
          <a:prstGeom prst="ellipse">
            <a:avLst/>
          </a:prstGeom>
          <a:solidFill>
            <a:srgbClr val="181816">
              <a:alpha val="50000"/>
            </a:srgbClr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ußzeilenplatzhalter 2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E7AC350C-4C28-4FEA-8416-9ADF8A892D0D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Radio Frequency Abla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92" name="Group 2"/>
          <p:cNvGrpSpPr/>
          <p:nvPr/>
        </p:nvGrpSpPr>
        <p:grpSpPr>
          <a:xfrm>
            <a:off x="3785040" y="4067280"/>
            <a:ext cx="5471280" cy="2280960"/>
            <a:chOff x="3785040" y="4067280"/>
            <a:chExt cx="5471280" cy="2280960"/>
          </a:xfrm>
        </p:grpSpPr>
        <p:sp>
          <p:nvSpPr>
            <p:cNvPr id="93" name="Rectangle 3"/>
            <p:cNvSpPr/>
            <p:nvPr/>
          </p:nvSpPr>
          <p:spPr>
            <a:xfrm>
              <a:off x="4865400" y="4067280"/>
              <a:ext cx="4390920" cy="2280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4910760" y="4167000"/>
              <a:ext cx="38696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1500"/>
                </a:spcBef>
                <a:buClr>
                  <a:srgbClr val="ffffff"/>
                </a:buClr>
                <a:buSzPct val="45000"/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 risk of under-abla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5"/>
            <p:cNvSpPr/>
            <p:nvPr/>
          </p:nvSpPr>
          <p:spPr>
            <a:xfrm>
              <a:off x="4912560" y="5612040"/>
              <a:ext cx="31060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buClr>
                  <a:srgbClr val="ffffff"/>
                </a:buClr>
                <a:buSzPct val="45000"/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 online monitor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4906080" y="4661640"/>
              <a:ext cx="3075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buClr>
                  <a:srgbClr val="ffffff"/>
                </a:buClr>
                <a:buSzPct val="45000"/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 estimation of ris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" name="Group 7"/>
            <p:cNvGrpSpPr/>
            <p:nvPr/>
          </p:nvGrpSpPr>
          <p:grpSpPr>
            <a:xfrm>
              <a:off x="3785040" y="4427280"/>
              <a:ext cx="892440" cy="1776240"/>
              <a:chOff x="3785040" y="4427280"/>
              <a:chExt cx="892440" cy="1776240"/>
            </a:xfrm>
          </p:grpSpPr>
          <p:sp>
            <p:nvSpPr>
              <p:cNvPr id="98" name="Oval 8"/>
              <p:cNvSpPr/>
              <p:nvPr/>
            </p:nvSpPr>
            <p:spPr>
              <a:xfrm>
                <a:off x="3830400" y="4744080"/>
                <a:ext cx="809280" cy="809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Text Box 9"/>
              <p:cNvSpPr/>
              <p:nvPr/>
            </p:nvSpPr>
            <p:spPr>
              <a:xfrm>
                <a:off x="3785040" y="4427280"/>
                <a:ext cx="892440" cy="17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9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−</a:t>
                </a:r>
                <a:endParaRPr b="0" lang="en-US" sz="9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Text Box 10"/>
            <p:cNvSpPr/>
            <p:nvPr/>
          </p:nvSpPr>
          <p:spPr>
            <a:xfrm>
              <a:off x="4912200" y="5128200"/>
              <a:ext cx="26827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buClr>
                  <a:srgbClr val="ffffff"/>
                </a:buClr>
                <a:buSzPct val="45000"/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o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se plann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755640" y="1603440"/>
            <a:ext cx="4569120" cy="2162160"/>
            <a:chOff x="755640" y="1603440"/>
            <a:chExt cx="4569120" cy="2162160"/>
          </a:xfrm>
        </p:grpSpPr>
        <p:sp>
          <p:nvSpPr>
            <p:cNvPr id="102" name="Oval 12"/>
            <p:cNvSpPr/>
            <p:nvPr/>
          </p:nvSpPr>
          <p:spPr>
            <a:xfrm>
              <a:off x="4452120" y="2293200"/>
              <a:ext cx="811800" cy="8121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4432320" y="1979280"/>
              <a:ext cx="892440" cy="17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96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755640" y="1603440"/>
              <a:ext cx="3315600" cy="2162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15"/>
            <p:cNvSpPr/>
            <p:nvPr/>
          </p:nvSpPr>
          <p:spPr>
            <a:xfrm>
              <a:off x="1077120" y="1663200"/>
              <a:ext cx="27662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1500"/>
                </a:spcBef>
                <a:buClr>
                  <a:srgbClr val="ffffff"/>
                </a:buClr>
                <a:buSzPct val="45000"/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inimally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invasiv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1037520" y="2656800"/>
              <a:ext cx="1972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Bef>
                  <a:spcPts val="1500"/>
                </a:spcBef>
                <a:buClr>
                  <a:srgbClr val="ffffff"/>
                </a:buClr>
                <a:buSzPct val="45000"/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dely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us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>
              <a:off x="1045080" y="3153240"/>
              <a:ext cx="21751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1500"/>
                </a:spcBef>
                <a:buClr>
                  <a:srgbClr val="ffffff"/>
                </a:buClr>
                <a:buSzPct val="45000"/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High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tenti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18"/>
            <p:cNvSpPr/>
            <p:nvPr/>
          </p:nvSpPr>
          <p:spPr>
            <a:xfrm>
              <a:off x="1065960" y="2160360"/>
              <a:ext cx="2581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1500"/>
                </a:spcBef>
                <a:buClr>
                  <a:srgbClr val="ffffff"/>
                </a:buClr>
                <a:buSzPct val="45000"/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mall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equip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E2CB7C33-4240-4F98-A27F-C9E9C2F42925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1"/>
          <p:cNvGrpSpPr/>
          <p:nvPr/>
        </p:nvGrpSpPr>
        <p:grpSpPr>
          <a:xfrm>
            <a:off x="923760" y="1344600"/>
            <a:ext cx="8229600" cy="1508040"/>
            <a:chOff x="923760" y="1344600"/>
            <a:chExt cx="8229600" cy="1508040"/>
          </a:xfrm>
        </p:grpSpPr>
        <p:sp>
          <p:nvSpPr>
            <p:cNvPr id="111" name="Rectangle 2"/>
            <p:cNvSpPr/>
            <p:nvPr/>
          </p:nvSpPr>
          <p:spPr>
            <a:xfrm>
              <a:off x="923760" y="1344600"/>
              <a:ext cx="8229600" cy="1508040"/>
            </a:xfrm>
            <a:prstGeom prst="rect">
              <a:avLst/>
            </a:prstGeom>
            <a:solidFill>
              <a:srgbClr val="d1d1c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" name="Group 3"/>
            <p:cNvGrpSpPr/>
            <p:nvPr/>
          </p:nvGrpSpPr>
          <p:grpSpPr>
            <a:xfrm>
              <a:off x="1015560" y="1426680"/>
              <a:ext cx="8040240" cy="1338120"/>
              <a:chOff x="1015560" y="1426680"/>
              <a:chExt cx="8040240" cy="1338120"/>
            </a:xfrm>
          </p:grpSpPr>
          <p:sp>
            <p:nvSpPr>
              <p:cNvPr id="113" name="Text Box 4"/>
              <p:cNvSpPr/>
              <p:nvPr/>
            </p:nvSpPr>
            <p:spPr>
              <a:xfrm>
                <a:off x="5883840" y="1426680"/>
                <a:ext cx="3171960" cy="1338120"/>
              </a:xfrm>
              <a:prstGeom prst="rect">
                <a:avLst/>
              </a:prstGeom>
              <a:solidFill>
                <a:srgbClr val="e9dcb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3f4e3c"/>
                    </a:solidFill>
                    <a:latin typeface="Arial"/>
                  </a:rPr>
                  <a:t>Support the choice of optimum therapy-parameters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Text Box 5"/>
              <p:cNvSpPr/>
              <p:nvPr/>
            </p:nvSpPr>
            <p:spPr>
              <a:xfrm>
                <a:off x="1015560" y="1426680"/>
                <a:ext cx="3171960" cy="1338120"/>
              </a:xfrm>
              <a:prstGeom prst="rect">
                <a:avLst/>
              </a:prstGeom>
              <a:solidFill>
                <a:srgbClr val="e9dcb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2200" spc="-1" strike="noStrike">
                    <a:solidFill>
                      <a:srgbClr val="3f4e3c"/>
                    </a:solidFill>
                    <a:latin typeface="Arial"/>
                  </a:rPr>
                  <a:t>Is a lesion </a:t>
                </a:r>
                <a:br>
                  <a:rPr sz="2200"/>
                </a:br>
                <a:r>
                  <a:rPr b="0" lang="en-GB" sz="2200" spc="-1" strike="noStrike">
                    <a:solidFill>
                      <a:srgbClr val="3f4e3c"/>
                    </a:solidFill>
                    <a:latin typeface="Arial"/>
                  </a:rPr>
                  <a:t>destructable </a:t>
                </a:r>
                <a:br>
                  <a:rPr sz="2200"/>
                </a:br>
                <a:r>
                  <a:rPr b="0" lang="en-GB" sz="2200" spc="-1" strike="noStrike">
                    <a:solidFill>
                      <a:srgbClr val="3f4e3c"/>
                    </a:solidFill>
                    <a:latin typeface="Arial"/>
                  </a:rPr>
                  <a:t>by ablation?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AutoShape 6"/>
              <p:cNvSpPr/>
              <p:nvPr/>
            </p:nvSpPr>
            <p:spPr>
              <a:xfrm>
                <a:off x="4491000" y="1844640"/>
                <a:ext cx="1091160" cy="501480"/>
              </a:xfrm>
              <a:prstGeom prst="leftRightArrow">
                <a:avLst>
                  <a:gd name="adj1" fmla="val 50000"/>
                  <a:gd name="adj2" fmla="val 43316"/>
                </a:avLst>
              </a:prstGeom>
              <a:solidFill>
                <a:srgbClr val="ffcc66"/>
              </a:solidFill>
              <a:ln w="9360">
                <a:solidFill>
                  <a:srgbClr val="3f4e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7"/>
          <p:cNvGrpSpPr/>
          <p:nvPr/>
        </p:nvGrpSpPr>
        <p:grpSpPr>
          <a:xfrm>
            <a:off x="874800" y="2722680"/>
            <a:ext cx="8329680" cy="1301400"/>
            <a:chOff x="874800" y="2722680"/>
            <a:chExt cx="8329680" cy="1301400"/>
          </a:xfrm>
        </p:grpSpPr>
        <p:grpSp>
          <p:nvGrpSpPr>
            <p:cNvPr id="117" name="Group 8"/>
            <p:cNvGrpSpPr/>
            <p:nvPr/>
          </p:nvGrpSpPr>
          <p:grpSpPr>
            <a:xfrm>
              <a:off x="2141280" y="2722680"/>
              <a:ext cx="5789520" cy="583200"/>
              <a:chOff x="2141280" y="2722680"/>
              <a:chExt cx="5789520" cy="583200"/>
            </a:xfrm>
          </p:grpSpPr>
          <p:sp>
            <p:nvSpPr>
              <p:cNvPr id="118" name="AutoShape 9"/>
              <p:cNvSpPr/>
              <p:nvPr/>
            </p:nvSpPr>
            <p:spPr>
              <a:xfrm>
                <a:off x="7259400" y="2722680"/>
                <a:ext cx="671400" cy="5832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cc66"/>
              </a:solidFill>
              <a:ln w="9360">
                <a:solidFill>
                  <a:srgbClr val="3f4e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AutoShape 10"/>
              <p:cNvSpPr/>
              <p:nvPr/>
            </p:nvSpPr>
            <p:spPr>
              <a:xfrm>
                <a:off x="2141280" y="2722680"/>
                <a:ext cx="671040" cy="5832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cc66"/>
              </a:solidFill>
              <a:ln w="9360">
                <a:solidFill>
                  <a:srgbClr val="3f4e3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Text Box 11"/>
            <p:cNvSpPr/>
            <p:nvPr/>
          </p:nvSpPr>
          <p:spPr>
            <a:xfrm>
              <a:off x="874800" y="3510360"/>
              <a:ext cx="8329680" cy="513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Arial"/>
                </a:rPr>
                <a:t>Must </a:t>
              </a:r>
              <a:r>
                <a:rPr b="0" i="1" lang="en-GB" sz="2200" spc="-1" strike="noStrike">
                  <a:solidFill>
                    <a:srgbClr val="e9dcb9"/>
                  </a:solidFill>
                  <a:latin typeface="Arial"/>
                  <a:ea typeface="Arial"/>
                </a:rPr>
                <a:t>perfusion</a:t>
              </a:r>
              <a:r>
                <a:rPr b="0" lang="en-GB" sz="2200" spc="-1" strike="noStrike">
                  <a:solidFill>
                    <a:srgbClr val="ffffff"/>
                  </a:solidFill>
                  <a:latin typeface="Arial"/>
                </a:rPr>
                <a:t> be stopped?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 Box 12"/>
          <p:cNvSpPr/>
          <p:nvPr/>
        </p:nvSpPr>
        <p:spPr>
          <a:xfrm>
            <a:off x="874800" y="4189320"/>
            <a:ext cx="8332560" cy="51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ust </a:t>
            </a:r>
            <a:r>
              <a:rPr b="0" i="1" lang="en-GB" sz="2200" spc="-1" strike="noStrike">
                <a:solidFill>
                  <a:srgbClr val="e9dcb9"/>
                </a:solidFill>
                <a:latin typeface="Arial"/>
                <a:ea typeface="Arial"/>
              </a:rPr>
              <a:t>several probes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 use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874800" y="4863960"/>
            <a:ext cx="8332560" cy="51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 must the </a:t>
            </a:r>
            <a:r>
              <a:rPr b="0" i="1" lang="en-GB" sz="2200" spc="-1" strike="noStrike">
                <a:solidFill>
                  <a:srgbClr val="e9dcb9"/>
                </a:solidFill>
                <a:latin typeface="Arial"/>
                <a:ea typeface="Arial"/>
              </a:rPr>
              <a:t>probes be plac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874800" y="6215040"/>
            <a:ext cx="8332560" cy="51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e9dcb9"/>
                </a:solidFill>
                <a:latin typeface="Arial"/>
                <a:ea typeface="Arial"/>
              </a:rPr>
              <a:t>How long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must power be applie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874800" y="5540400"/>
            <a:ext cx="8332560" cy="51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i="1" lang="en-GB" sz="2200" spc="-1" strike="noStrike">
                <a:solidFill>
                  <a:srgbClr val="e9dcb9"/>
                </a:solidFill>
                <a:latin typeface="Arial"/>
                <a:ea typeface="Arial"/>
              </a:rPr>
              <a:t>power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ust be applie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Goals of Numerical Suppor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ußzeilenplatzhalter 3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08CC205C-6E4D-42BA-A8E5-51D56C61D5D2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Image based computing pipelin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152800" y="1373040"/>
            <a:ext cx="2814480" cy="265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3"/>
          <p:cNvSpPr/>
          <p:nvPr/>
        </p:nvSpPr>
        <p:spPr>
          <a:xfrm>
            <a:off x="519480" y="1370160"/>
            <a:ext cx="141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cc66"/>
                </a:solidFill>
                <a:latin typeface="Arial"/>
              </a:rPr>
              <a:t>Acqui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4987800" y="1370160"/>
            <a:ext cx="4715280" cy="2656800"/>
            <a:chOff x="4987800" y="1370160"/>
            <a:chExt cx="4715280" cy="2656800"/>
          </a:xfrm>
        </p:grpSpPr>
        <p:pic>
          <p:nvPicPr>
            <p:cNvPr id="131" name="Picture 5" descr=""/>
            <p:cNvPicPr/>
            <p:nvPr/>
          </p:nvPicPr>
          <p:blipFill>
            <a:blip r:embed="rId2"/>
            <a:stretch/>
          </p:blipFill>
          <p:spPr>
            <a:xfrm>
              <a:off x="5201640" y="1372680"/>
              <a:ext cx="2810880" cy="2654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2" name="AutoShape 6"/>
            <p:cNvSpPr/>
            <p:nvPr/>
          </p:nvSpPr>
          <p:spPr>
            <a:xfrm rot="16200000">
              <a:off x="5056200" y="2478600"/>
              <a:ext cx="307440" cy="444240"/>
            </a:xfrm>
            <a:prstGeom prst="downArrow">
              <a:avLst>
                <a:gd name="adj1" fmla="val 46593"/>
                <a:gd name="adj2" fmla="val 36492"/>
              </a:avLst>
            </a:prstGeom>
            <a:solidFill>
              <a:srgbClr val="ffcc66"/>
            </a:solidFill>
            <a:ln w="9360">
              <a:solidFill>
                <a:srgbClr val="3f4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7"/>
            <p:cNvSpPr/>
            <p:nvPr/>
          </p:nvSpPr>
          <p:spPr>
            <a:xfrm>
              <a:off x="8115840" y="1370160"/>
              <a:ext cx="158724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ffcc66"/>
                  </a:solidFill>
                  <a:latin typeface="Arial"/>
                </a:rPr>
                <a:t>Denoising/</a:t>
              </a:r>
              <a:br>
                <a:rPr sz="1800"/>
              </a:br>
              <a:r>
                <a:rPr b="0" i="1" lang="en-GB" sz="1800" spc="-1" strike="noStrike">
                  <a:solidFill>
                    <a:srgbClr val="ffcc66"/>
                  </a:solidFill>
                  <a:latin typeface="Arial"/>
                </a:rPr>
                <a:t>Enhanc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5195880" y="4033800"/>
            <a:ext cx="4521240" cy="2857320"/>
            <a:chOff x="5195880" y="4033800"/>
            <a:chExt cx="4521240" cy="2857320"/>
          </a:xfrm>
        </p:grpSpPr>
        <p:pic>
          <p:nvPicPr>
            <p:cNvPr id="135" name="Picture 9" descr=""/>
            <p:cNvPicPr/>
            <p:nvPr/>
          </p:nvPicPr>
          <p:blipFill>
            <a:blip r:embed="rId3"/>
            <a:stretch/>
          </p:blipFill>
          <p:spPr>
            <a:xfrm>
              <a:off x="5195880" y="4236840"/>
              <a:ext cx="281196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10"/>
            <p:cNvSpPr/>
            <p:nvPr/>
          </p:nvSpPr>
          <p:spPr>
            <a:xfrm>
              <a:off x="6465240" y="4033800"/>
              <a:ext cx="307440" cy="444240"/>
            </a:xfrm>
            <a:prstGeom prst="downArrow">
              <a:avLst>
                <a:gd name="adj1" fmla="val 46593"/>
                <a:gd name="adj2" fmla="val 36492"/>
              </a:avLst>
            </a:prstGeom>
            <a:solidFill>
              <a:srgbClr val="ffcc66"/>
            </a:solidFill>
            <a:ln w="9360">
              <a:solidFill>
                <a:srgbClr val="3f4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1"/>
            <p:cNvSpPr/>
            <p:nvPr/>
          </p:nvSpPr>
          <p:spPr>
            <a:xfrm>
              <a:off x="8129880" y="4225680"/>
              <a:ext cx="15872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ffcc66"/>
                  </a:solidFill>
                  <a:latin typeface="Arial"/>
                </a:rPr>
                <a:t>Segment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Group 12"/>
          <p:cNvGrpSpPr/>
          <p:nvPr/>
        </p:nvGrpSpPr>
        <p:grpSpPr>
          <a:xfrm>
            <a:off x="577800" y="4226040"/>
            <a:ext cx="4608000" cy="2655720"/>
            <a:chOff x="577800" y="4226040"/>
            <a:chExt cx="4608000" cy="2655720"/>
          </a:xfrm>
        </p:grpSpPr>
        <p:pic>
          <p:nvPicPr>
            <p:cNvPr id="139" name="Picture 13" descr=""/>
            <p:cNvPicPr/>
            <p:nvPr/>
          </p:nvPicPr>
          <p:blipFill>
            <a:blip r:embed="rId4"/>
            <a:stretch/>
          </p:blipFill>
          <p:spPr>
            <a:xfrm>
              <a:off x="2127600" y="4226040"/>
              <a:ext cx="2852640" cy="26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4"/>
            <p:cNvSpPr/>
            <p:nvPr/>
          </p:nvSpPr>
          <p:spPr>
            <a:xfrm>
              <a:off x="577800" y="4255560"/>
              <a:ext cx="1432800" cy="19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buClr>
                  <a:srgbClr val="ffffff"/>
                </a:buClr>
                <a:buSzPct val="45000"/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ffcc66"/>
                  </a:solidFill>
                  <a:latin typeface="Arial"/>
                </a:rPr>
                <a:t>PDE model/</a:t>
              </a:r>
              <a:br>
                <a:rPr sz="1800"/>
              </a:br>
              <a:r>
                <a:rPr b="0" i="1" lang="en-GB" sz="1800" spc="-1" strike="noStrike">
                  <a:solidFill>
                    <a:srgbClr val="ffcc66"/>
                  </a:solidFill>
                  <a:latin typeface="Arial"/>
                </a:rPr>
                <a:t>Simul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buClr>
                  <a:srgbClr val="ffffff"/>
                </a:buClr>
                <a:buSzPct val="45000"/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Electric 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buClr>
                  <a:srgbClr val="ffffff"/>
                </a:buClr>
                <a:buSzPct val="45000"/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at 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distribu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15"/>
            <p:cNvSpPr/>
            <p:nvPr/>
          </p:nvSpPr>
          <p:spPr>
            <a:xfrm rot="5400000">
              <a:off x="4809960" y="5345640"/>
              <a:ext cx="307440" cy="443880"/>
            </a:xfrm>
            <a:prstGeom prst="downArrow">
              <a:avLst>
                <a:gd name="adj1" fmla="val 46593"/>
                <a:gd name="adj2" fmla="val 36462"/>
              </a:avLst>
            </a:prstGeom>
            <a:solidFill>
              <a:srgbClr val="ffcc66"/>
            </a:solidFill>
            <a:ln w="9360">
              <a:solidFill>
                <a:srgbClr val="3f4e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ußzeilenplatzhalter 2"/>
          <p:cNvSpPr/>
          <p:nvPr/>
        </p:nvSpPr>
        <p:spPr>
          <a:xfrm>
            <a:off x="3887640" y="6970680"/>
            <a:ext cx="2298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anne Tiesler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fld id="{399ED145-3058-4722-8016-8DB94BD74F66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595440" y="4319640"/>
            <a:ext cx="8904240" cy="2027160"/>
            <a:chOff x="595440" y="4319640"/>
            <a:chExt cx="8904240" cy="2027160"/>
          </a:xfrm>
        </p:grpSpPr>
        <p:sp>
          <p:nvSpPr>
            <p:cNvPr id="144" name="Rectangle 2"/>
            <p:cNvSpPr/>
            <p:nvPr/>
          </p:nvSpPr>
          <p:spPr>
            <a:xfrm>
              <a:off x="595440" y="4319640"/>
              <a:ext cx="8904240" cy="2027160"/>
            </a:xfrm>
            <a:prstGeom prst="rect">
              <a:avLst/>
            </a:prstGeom>
            <a:solidFill>
              <a:srgbClr val="e9dcb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3"/>
            <p:cNvSpPr/>
            <p:nvPr/>
          </p:nvSpPr>
          <p:spPr>
            <a:xfrm>
              <a:off x="709560" y="4422240"/>
              <a:ext cx="17658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686b5d"/>
                  </a:solidFill>
                  <a:latin typeface="Arial"/>
                </a:rPr>
                <a:t>Source/Sink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4550760" y="4458960"/>
              <a:ext cx="4592880" cy="36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Simulating RF Abla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595440" y="3152880"/>
            <a:ext cx="8904240" cy="976320"/>
            <a:chOff x="595440" y="3152880"/>
            <a:chExt cx="8904240" cy="976320"/>
          </a:xfrm>
        </p:grpSpPr>
        <p:sp>
          <p:nvSpPr>
            <p:cNvPr id="149" name="Rectangle 7"/>
            <p:cNvSpPr/>
            <p:nvPr/>
          </p:nvSpPr>
          <p:spPr>
            <a:xfrm>
              <a:off x="595440" y="3152880"/>
              <a:ext cx="8904240" cy="976320"/>
            </a:xfrm>
            <a:prstGeom prst="rect">
              <a:avLst/>
            </a:prstGeom>
            <a:solidFill>
              <a:srgbClr val="e9dcb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762840" y="3225600"/>
              <a:ext cx="2806560" cy="8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686b5d"/>
                  </a:solidFill>
                  <a:latin typeface="Arial"/>
                </a:rPr>
                <a:t>Heat-equation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686b5d"/>
                  </a:solidFill>
                  <a:latin typeface="Arial"/>
                </a:rPr>
                <a:t>(Bioheat transfer eq.)</a:t>
              </a:r>
              <a:r>
                <a:rPr b="0" lang="en-GB" sz="2200" spc="-1" strike="noStrike">
                  <a:solidFill>
                    <a:srgbClr val="686b5d"/>
                  </a:solidFill>
                  <a:latin typeface="Arial"/>
                </a:rPr>
                <a:t>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Picture 9" descr=""/>
            <p:cNvPicPr/>
            <p:nvPr/>
          </p:nvPicPr>
          <p:blipFill>
            <a:blip r:embed="rId2"/>
            <a:stretch/>
          </p:blipFill>
          <p:spPr>
            <a:xfrm>
              <a:off x="3675960" y="3474360"/>
              <a:ext cx="5780520" cy="36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10"/>
          <p:cNvGrpSpPr/>
          <p:nvPr/>
        </p:nvGrpSpPr>
        <p:grpSpPr>
          <a:xfrm>
            <a:off x="595440" y="1739880"/>
            <a:ext cx="8904240" cy="1211400"/>
            <a:chOff x="595440" y="1739880"/>
            <a:chExt cx="8904240" cy="1211400"/>
          </a:xfrm>
        </p:grpSpPr>
        <p:sp>
          <p:nvSpPr>
            <p:cNvPr id="153" name="Rectangle 11"/>
            <p:cNvSpPr/>
            <p:nvPr/>
          </p:nvSpPr>
          <p:spPr>
            <a:xfrm>
              <a:off x="595440" y="1739880"/>
              <a:ext cx="8904240" cy="1211400"/>
            </a:xfrm>
            <a:prstGeom prst="rect">
              <a:avLst/>
            </a:prstGeom>
            <a:solidFill>
              <a:srgbClr val="e9dcb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736200" y="1774440"/>
              <a:ext cx="23112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686b5d"/>
                  </a:solidFill>
                  <a:latin typeface="Arial"/>
                </a:rPr>
                <a:t>Electric potential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4068720" y="4967280"/>
            <a:ext cx="5252760" cy="1184040"/>
            <a:chOff x="4068720" y="4967280"/>
            <a:chExt cx="5252760" cy="1184040"/>
          </a:xfrm>
        </p:grpSpPr>
        <p:pic>
          <p:nvPicPr>
            <p:cNvPr id="156" name="Picture 14" descr=""/>
            <p:cNvPicPr/>
            <p:nvPr/>
          </p:nvPicPr>
          <p:blipFill>
            <a:blip r:embed="rId3"/>
            <a:stretch/>
          </p:blipFill>
          <p:spPr>
            <a:xfrm>
              <a:off x="4169880" y="5328360"/>
              <a:ext cx="5151600" cy="82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5" descr=""/>
            <p:cNvPicPr/>
            <p:nvPr/>
          </p:nvPicPr>
          <p:blipFill>
            <a:blip r:embed="rId4"/>
            <a:stretch/>
          </p:blipFill>
          <p:spPr>
            <a:xfrm>
              <a:off x="4068720" y="4967280"/>
              <a:ext cx="4919760" cy="36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Picture 16" descr=""/>
          <p:cNvPicPr/>
          <p:nvPr/>
        </p:nvPicPr>
        <p:blipFill>
          <a:blip r:embed="rId5"/>
          <a:stretch/>
        </p:blipFill>
        <p:spPr>
          <a:xfrm>
            <a:off x="3473280" y="1859040"/>
            <a:ext cx="5588280" cy="9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ng Meng</cp:lastModifiedBy>
  <dcterms:modified xsi:type="dcterms:W3CDTF">2008-03-26T08:04:14Z</dcterms:modified>
  <cp:revision>1</cp:revision>
  <dc:subject/>
  <dc:title>Identification of Material Parameters for Thermal Ablation</dc:title>
</cp:coreProperties>
</file>